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8BD5-667F-4BFE-B1EC-2747DB17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0174-9E5C-45F2-979F-354F1A3691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2FD-7F46-4D93-85FC-113D188F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92DD-9590-4382-A996-E3481291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7E5-024E-4647-B9AC-25037162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3A5-4992-4644-B6B5-341B00F1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0CCD-BEE8-4AF5-869E-4334D8B7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FD79-4C0E-4480-A35C-6AEF8489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62C2-F4E3-4473-A093-212DE4B3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2646-FE22-4158-9276-669CE45A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2B55-34DC-427C-82E0-8F6458FD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267C-A2D9-495A-9682-88BB413D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4965-04E6-42B3-80FE-2CD87DF7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B27-380C-49BE-8C08-844F7433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6BEA-5DF5-4ECC-AEAD-C183ED17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A750-46E1-48A7-9F58-8E64FADC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B030-67E6-40F7-9B69-4628C284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030D-883F-47EE-B777-8E0E80B1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1547-C2B8-4638-A074-563E01A2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F6B-8355-4E1B-8453-FBDF049F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47C-F3E0-4C15-9F2E-E2CB545B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BCF-60D5-46A8-B8E1-A73196EF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31D-B178-43A1-8115-310AE26F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3464-E8EB-460F-920C-00504067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8A1-6B2B-4C04-B117-58C99505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89A-1F6B-4605-AFA3-F9E1496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31E7-CF95-407C-9428-11EFA7DB1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EC3A-EACC-4675-B4F5-130DE8AABC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30920"/>
            <a:ext cx="33498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DEON’S TRUMPE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905120"/>
            <a:ext cx="3502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Jury’s verdict in Gideon’s original trial in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answer TWO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3"/>
          <a:stretch/>
        </p:blipFill>
        <p:spPr>
          <a:xfrm>
            <a:off x="3730680" y="0"/>
            <a:ext cx="5445000" cy="70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84240"/>
            <a:ext cx="9144000" cy="41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was Gideon charged with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How long was his sentence?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2"/>
          <a:stretch/>
        </p:blipFill>
        <p:spPr>
          <a:xfrm>
            <a:off x="-152280" y="3564000"/>
            <a:ext cx="9296280" cy="278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22T14:11:01Z</dcterms:modified>
  <cp:revision>139</cp:revision>
  <dc:subject/>
  <dc:title>D/O: TO EXPLAIN AND IDENTIFY PROBLEMS OF ECONOMICS</dc:title>
</cp:coreProperties>
</file>